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3ED-14D1-4DE9-9172-849009BD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1CB-034C-43C8-8820-8EF19B4D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99B-888A-46BD-B2E4-DDEAC477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DE2-BA69-498C-A268-C47BB612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266-33DB-49CE-B11B-09EEF230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2C9-DC21-4A5E-B648-09289A08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946-8AB5-4B31-A87E-C9FBB724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78E-6864-4C3A-AC48-FD2B31DB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7A5-2242-44AA-B633-1F2FA11D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38F-B244-4294-AD36-1923D46B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22B-68BA-4416-9058-1FF9E8CD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B6F-F75A-49E9-BCEB-99FDF595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36BA-5EBD-4907-B93A-03E8949706C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012680"/>
            <a:ext cx="86216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26960" y="1844640"/>
            <a:ext cx="8393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حجر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أصحاب الحجر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حجر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9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27082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حج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سف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حجر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سنة الله في الرسالة والرسل وأقوام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طبيعة المكذبين بهذا الد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أنظار إلى التأمل في بعض آيات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البشر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نبيه على مصارع الغا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856908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0T17:48:07Z</dcterms:modified>
  <cp:revision>1819</cp:revision>
  <dc:subject/>
  <dc:title>عرض تقديمي في PowerPoint</dc:title>
</cp:coreProperties>
</file>